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BE51-C8B4-41F1-A50E-6320BF0D0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9C20-83D4-4573-ABBA-05EEBEF48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7375-BC39-47B5-8251-298B60D62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420B-2743-43D2-87F7-F8009B192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400E-A860-4D84-9BA8-DA6E69017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B766-7D3B-43BA-AB3E-08B92602B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69AA-8AEF-4375-92DB-6003A79F5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7365-37AD-4CF5-A299-B06845CCB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F5A2-C849-4F2E-8C20-ED9A85EF5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2FF2-3483-466C-B1E2-B3DD7C4E9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8829-53F6-432C-B217-E250DCC67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0AC4-2137-494A-9202-169075986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7A3E3-C1DA-477E-AA2B-9F19B1FE69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2514600"/>
            <a:ext cx="762012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762120"/>
            <a:ext cx="7620120" cy="1828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066680" y="838080"/>
            <a:ext cx="71629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laybill"/>
              </a:rPr>
              <a:t>WinOdEan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laybill"/>
              <a:ea typeface="Playbill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259092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Wind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31240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 Extra Bold"/>
              </a:rPr>
              <a:t>Optim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37339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Data En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4343400"/>
            <a:ext cx="7620120" cy="18288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4724280"/>
            <a:ext cx="7543800" cy="923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etter Gothic"/>
              </a:rPr>
              <a:t>Affinity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e-mail: affinity@vsnl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4T08:44:49Z</dcterms:created>
  <dc:creator>OPEY A.</dc:creator>
  <dc:description/>
  <dc:language>en-US</dc:language>
  <cp:lastModifiedBy>OPEY A.</cp:lastModifiedBy>
  <dcterms:modified xsi:type="dcterms:W3CDTF">1999-12-27T13:44:17Z</dcterms:modified>
  <cp:revision>12</cp:revision>
  <dc:subject/>
  <dc:title>No Slide Title</dc:title>
</cp:coreProperties>
</file>