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FE734-E395-474D-AD19-01B9542D6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28B2C-E1A6-4E8E-B001-2935EA6A7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240C6-DDE8-4FE9-9271-E226DDCEF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5FC55-3F56-48CF-9ADA-52C53B0B6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2D836-809B-466C-BB0E-6A7850A57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33414-401F-4F40-98BF-8D52428A3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649C4-66C0-4CBC-9BAD-F38949629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7D574-7785-404E-B9A7-3620F7588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483D5-3D91-4595-B8E1-F9B699E64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00F1F-F5E2-4A80-AAA3-23092A274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C1470-6052-4072-AD94-243E3C7FB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FC650-9327-4A1C-A451-AA889A895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08A3E-C811-442E-B5AD-4317FEED40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1998-12-04T22:13:23Z</dcterms:modified>
  <cp:revision>0</cp:revision>
  <dc:subject/>
  <dc:title>PowerPoint Presentation</dc:title>
</cp:coreProperties>
</file>