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59360" y="6324480"/>
            <a:ext cx="153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M Corporation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0" y="6248520"/>
            <a:ext cx="1768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action &amp; Messag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91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914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59092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523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DI and XML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?xml encoding="ISO-8859-1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personnel (person)+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person (name,email*,url*,link?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ATTLIST person id ID #REQUIRE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family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given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name (#PCDATA|family|given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email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url EMPT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ATTLIST url href CDATA #REQUIRE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link EMPT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ATTLIST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 IDREF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ordinates IDREFS #IMPLIE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describe the structure of the XML document, but in much more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constraints on elements and attributes (i.e., date, numeric, list of values, mask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/max repe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unction and constructs that are not supported in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” conten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define your own types, including base and derived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"1.0" encoding="UTF-8" ?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schema xmlns:x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w3.org/2001/XMLSchem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nam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sequen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ref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in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ax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bou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sequen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ele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nam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sequen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ref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name =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in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axOccurs=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typ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s: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ref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in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ax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bou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ref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in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ax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sequen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attribute nam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typ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s: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us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ele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schem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DI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 is Electronic Data Inter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s-based way to exchange data within a community of trading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Standards are X12, EDI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examples: UCS, ODETTE, TRADAC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ng partner communities determine which standard to 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by standards groups such as DISA and UN/CEF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both syntax an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EDI do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quire the use of a VAN for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EDI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g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by delimi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gment, data element has a specific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inclu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osit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group of related data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ample seg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B+UNOC:3+FFTESTX:ZZ+EDIFACTRCVR:ZZ+030314:1708+000000056+++++1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mposite data element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    simple data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8120" y="5029200"/>
            <a:ext cx="160020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50292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8098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7220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EDI data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re combined to 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nsaction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ss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business documents destined for a particular trading 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related documents within an 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DI standards make this optional or do not support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ngle business document, such as a purchase order or in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DI standards call th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EDI Inter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*00*          *00*          *ZZ*MMT0001        *ZZ*D53T   KIRKWOX *001003*1150*U*00200*000001100*0*T*: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*PO*DEMO850CL*  *001003*1150*2070*X*00200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*850*3078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***PO111111-A*DIREL 2.1**99120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1*BT*KINGOFTHEBEA*01*054412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66*LB***BP*98876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212*LB***BP*82348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515*LB***BP*91436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515*GA***BP*0886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50150*LB***BP*91424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33*LB***BP*0881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T*0*15449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*11*3078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Transaction header/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*1*2070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Group header/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A*1*000001100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Interchange header/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"/>
          <p:cNvCxnSpPr>
            <a:stCxn id="754" idx="3"/>
            <a:endCxn id="754" idx="3"/>
          </p:cNvCxnSpPr>
          <p:nvPr/>
        </p:nvCxnSpPr>
        <p:spPr>
          <a:xfrm>
            <a:off x="8457840" y="4038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685800" y="2743200"/>
            <a:ext cx="75438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5257800"/>
            <a:ext cx="13716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057400" y="54100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716292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" y="2895480"/>
            <a:ext cx="38862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5105520"/>
            <a:ext cx="9144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" y="3124080"/>
            <a:ext cx="1143000" cy="152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5800" y="4952880"/>
            <a:ext cx="914400" cy="152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3276720"/>
            <a:ext cx="30481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60020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600200" y="5029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65724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828800" y="32004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571640" y="3048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72200" y="30481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4864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get from one forma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the other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co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 int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many variations when dealing with a large number of trading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versions of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implementation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SL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for XML-&gt;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handle EDI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 Transl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ransformation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easier to create than custo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representation of source, targe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g and drop for simpl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dvanced command language for special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fig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define which map to use for a trading partner or group of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allow you to specify other options such (i.e., validation level, special enveloping, etc.) by partn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handle other EDI-related function such as validation and acknowledg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two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translator (Server compon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the data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the databases that are updated by the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ed on Windows, AIX, z/OS (batch mode and C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GUI interface (Client compon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create maps, define data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used for administration, such as trading partner management and profile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nect to multiple run-time databases via O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tz Fahren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Sphere Data Interchange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ritzf@us.ibm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DI Client/Serv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aptop"/>
          <p:cNvSpPr/>
          <p:nvPr/>
        </p:nvSpPr>
        <p:spPr>
          <a:xfrm>
            <a:off x="609480" y="2971800"/>
            <a:ext cx="1809720" cy="13622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914400" y="3048120"/>
            <a:ext cx="1219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or mo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3276720"/>
            <a:ext cx="1828800" cy="457200"/>
          </a:xfrm>
          <a:prstGeom prst="flowChartProcess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2 Connect P.E. v7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206600" y="327672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33720" y="3505320"/>
            <a:ext cx="12952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5880" y="2286000"/>
            <a:ext cx="2590920" cy="3276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010280" y="4191120"/>
            <a:ext cx="838440" cy="1143000"/>
          </a:xfrm>
          <a:prstGeom prst="flowChartMagneticDisk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64200" y="4557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267080" y="37339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267080" y="4952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72200" y="2438280"/>
            <a:ext cx="2438280" cy="76212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983280" y="24382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7391520" y="3200400"/>
            <a:ext cx="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304040" y="5513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4987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439000" y="320040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575960" y="464832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743360" y="37339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508560" y="289548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C o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29760" y="17524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/ 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133400" y="420696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981080" y="4343400"/>
            <a:ext cx="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752480" y="4876920"/>
            <a:ext cx="457200" cy="685800"/>
          </a:xfrm>
          <a:prstGeom prst="flowChartMagneticDisk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523880" y="556272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W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059920" y="441972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3208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914400" y="4343400"/>
            <a:ext cx="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" y="4876920"/>
            <a:ext cx="457200" cy="685800"/>
          </a:xfrm>
          <a:prstGeom prst="flowChartMagneticDisk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57200" y="556272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Config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993240" y="441972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90440" y="55864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2K, AIX, z/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-to-Any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219320" y="3581280"/>
            <a:ext cx="1620720" cy="87156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752480" y="384012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19320" y="4729320"/>
            <a:ext cx="167616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297800" y="4830840"/>
            <a:ext cx="1620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-orien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xe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mma-del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203560" y="537696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219320" y="2478240"/>
            <a:ext cx="164448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752480" y="2773440"/>
            <a:ext cx="53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81280" y="3657600"/>
            <a:ext cx="1882800" cy="703440"/>
          </a:xfrm>
          <a:custGeom>
            <a:avLst/>
            <a:gdLst/>
            <a:ahLst/>
            <a:rect l="l" t="t" r="r" b="b"/>
            <a:pathLst>
              <a:path w="3557" h="1327">
                <a:moveTo>
                  <a:pt x="0" y="664"/>
                </a:moveTo>
                <a:lnTo>
                  <a:pt x="38" y="510"/>
                </a:lnTo>
                <a:lnTo>
                  <a:pt x="85" y="440"/>
                </a:lnTo>
                <a:lnTo>
                  <a:pt x="151" y="375"/>
                </a:lnTo>
                <a:lnTo>
                  <a:pt x="326" y="262"/>
                </a:lnTo>
                <a:lnTo>
                  <a:pt x="555" y="167"/>
                </a:lnTo>
                <a:lnTo>
                  <a:pt x="823" y="96"/>
                </a:lnTo>
                <a:lnTo>
                  <a:pt x="1123" y="44"/>
                </a:lnTo>
                <a:lnTo>
                  <a:pt x="1445" y="13"/>
                </a:lnTo>
                <a:lnTo>
                  <a:pt x="1778" y="0"/>
                </a:lnTo>
                <a:lnTo>
                  <a:pt x="1941" y="2"/>
                </a:lnTo>
                <a:lnTo>
                  <a:pt x="2107" y="10"/>
                </a:lnTo>
                <a:lnTo>
                  <a:pt x="2430" y="41"/>
                </a:lnTo>
                <a:lnTo>
                  <a:pt x="2730" y="92"/>
                </a:lnTo>
                <a:lnTo>
                  <a:pt x="3001" y="165"/>
                </a:lnTo>
                <a:lnTo>
                  <a:pt x="3227" y="257"/>
                </a:lnTo>
                <a:lnTo>
                  <a:pt x="3404" y="372"/>
                </a:lnTo>
                <a:lnTo>
                  <a:pt x="3468" y="435"/>
                </a:lnTo>
                <a:lnTo>
                  <a:pt x="3517" y="506"/>
                </a:lnTo>
                <a:lnTo>
                  <a:pt x="3545" y="581"/>
                </a:lnTo>
                <a:lnTo>
                  <a:pt x="3557" y="664"/>
                </a:lnTo>
                <a:lnTo>
                  <a:pt x="3548" y="743"/>
                </a:lnTo>
                <a:lnTo>
                  <a:pt x="3519" y="818"/>
                </a:lnTo>
                <a:lnTo>
                  <a:pt x="3472" y="887"/>
                </a:lnTo>
                <a:lnTo>
                  <a:pt x="3406" y="953"/>
                </a:lnTo>
                <a:lnTo>
                  <a:pt x="3231" y="1066"/>
                </a:lnTo>
                <a:lnTo>
                  <a:pt x="3002" y="1161"/>
                </a:lnTo>
                <a:lnTo>
                  <a:pt x="2734" y="1232"/>
                </a:lnTo>
                <a:lnTo>
                  <a:pt x="2434" y="1284"/>
                </a:lnTo>
                <a:lnTo>
                  <a:pt x="2113" y="1315"/>
                </a:lnTo>
                <a:lnTo>
                  <a:pt x="1779" y="1327"/>
                </a:lnTo>
                <a:lnTo>
                  <a:pt x="1450" y="1318"/>
                </a:lnTo>
                <a:lnTo>
                  <a:pt x="1128" y="1287"/>
                </a:lnTo>
                <a:lnTo>
                  <a:pt x="827" y="1236"/>
                </a:lnTo>
                <a:lnTo>
                  <a:pt x="556" y="1163"/>
                </a:lnTo>
                <a:lnTo>
                  <a:pt x="330" y="1071"/>
                </a:lnTo>
                <a:lnTo>
                  <a:pt x="153" y="955"/>
                </a:lnTo>
                <a:lnTo>
                  <a:pt x="89" y="893"/>
                </a:lnTo>
                <a:lnTo>
                  <a:pt x="41" y="822"/>
                </a:lnTo>
                <a:lnTo>
                  <a:pt x="12" y="747"/>
                </a:lnTo>
                <a:lnTo>
                  <a:pt x="0" y="664"/>
                </a:lnTo>
                <a:close/>
              </a:path>
            </a:pathLst>
          </a:custGeom>
          <a:solidFill>
            <a:srgbClr val="0098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38200" y="37720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y to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123440" y="4032360"/>
            <a:ext cx="100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248520" y="3693960"/>
            <a:ext cx="1620720" cy="87156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781680" y="395280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4842000"/>
            <a:ext cx="167616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324480" y="494352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-orien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xe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mma-del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248520" y="2590920"/>
            <a:ext cx="164448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781680" y="2886120"/>
            <a:ext cx="53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895480" y="39625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rot="2253600">
            <a:off x="2916000" y="3133800"/>
            <a:ext cx="1066680" cy="75960"/>
          </a:xfrm>
          <a:prstGeom prst="rightArrow">
            <a:avLst>
              <a:gd name="adj1" fmla="val 47991"/>
              <a:gd name="adj2" fmla="val 2116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19604400">
            <a:off x="2971800" y="4876560"/>
            <a:ext cx="1066680" cy="75960"/>
          </a:xfrm>
          <a:prstGeom prst="rightArrow">
            <a:avLst>
              <a:gd name="adj1" fmla="val 47991"/>
              <a:gd name="adj2" fmla="val 2116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2253600">
            <a:off x="5028840" y="4876920"/>
            <a:ext cx="1066680" cy="75960"/>
          </a:xfrm>
          <a:prstGeom prst="rightArrow">
            <a:avLst>
              <a:gd name="adj1" fmla="val 47991"/>
              <a:gd name="adj2" fmla="val 2116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19735800">
            <a:off x="5105520" y="3200400"/>
            <a:ext cx="1066680" cy="76320"/>
          </a:xfrm>
          <a:prstGeom prst="rightArrow">
            <a:avLst>
              <a:gd name="adj1" fmla="val 47991"/>
              <a:gd name="adj2" fmla="val 21061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562720" y="39625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this have to do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Q or CIC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phere Data Interchange translator includes special function for MQ and C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MQ queues for input and/or 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threaded adapter for Windows and A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an get/set MQMD and RFH2 header values in the ma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TD, TS queues for input and/o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VAN interface for C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CICS-specific performance enhan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session (C69) for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ting between EDI and XM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up is the same for all plat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WDI Client GUI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how, when to do the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local database and exported to server database (client standalone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can be done directly in server database (client-server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time execution varies by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ting between EDI and XM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 Setup 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XML DTD or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ed from trading partner or industr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created by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EDI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ed from WDI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WDI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how the data is co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when this map is used, additional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ting between EDI and XM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 Runtime 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the PERFORM TRANSFORM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file on Windows, A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Adapter (trigger program) on Windows, A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CL on z/OS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O Panel interface on z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transaction on C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trigger program on z/OS, C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 TRANSFORM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TRANSFORM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LE(XMLFIL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FILE(EDIFILE)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(X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FILE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and transformation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(based on DTD) to E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to XML (based on sche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tz Fahrenback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ritzf@us.ib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n Clark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emd19@us.ib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ibm.com/websphere/data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WDI/B2B Customer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rata Beach Resort, St. Pete Beach,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3, 2004 – Pre-Conference Tuto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4-16, 2004 -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XM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ED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phere Data Interchange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DI mapping and transform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ML-ED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for attending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een shots from 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ing a DTD or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6" name=""/>
          <p:cNvGraphicFramePr/>
          <p:nvPr/>
        </p:nvGraphicFramePr>
        <p:xfrm>
          <a:off x="1471680" y="1981080"/>
          <a:ext cx="6200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1981080"/>
                    <a:ext cx="6200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ing a DTD or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685800" y="2556000"/>
          <a:ext cx="777240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56000"/>
                    <a:ext cx="777240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ng Sender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eiver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6" name=""/>
          <p:cNvGraphicFramePr/>
          <p:nvPr/>
        </p:nvGraphicFramePr>
        <p:xfrm>
          <a:off x="880920" y="1981080"/>
          <a:ext cx="7380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1981080"/>
                    <a:ext cx="7380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ing EDI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1" name=""/>
          <p:cNvGraphicFramePr/>
          <p:nvPr/>
        </p:nvGraphicFramePr>
        <p:xfrm>
          <a:off x="1469880" y="1981080"/>
          <a:ext cx="6202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981080"/>
                    <a:ext cx="6202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ing EDI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4" name=""/>
          <p:cNvGraphicFramePr/>
          <p:nvPr/>
        </p:nvGraphicFramePr>
        <p:xfrm>
          <a:off x="1284120" y="1981080"/>
          <a:ext cx="6575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4120" y="1981080"/>
                    <a:ext cx="6575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 to XML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1" name=""/>
          <p:cNvGraphicFramePr/>
          <p:nvPr/>
        </p:nvGraphicFramePr>
        <p:xfrm>
          <a:off x="1424160" y="1981080"/>
          <a:ext cx="6294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981080"/>
                    <a:ext cx="6294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1096920" y="1981080"/>
          <a:ext cx="6950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981080"/>
                    <a:ext cx="6950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ML Inpu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ML-EDI transl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9" name=""/>
          <p:cNvGraphicFramePr/>
          <p:nvPr/>
        </p:nvGraphicFramePr>
        <p:xfrm>
          <a:off x="2033640" y="1981080"/>
          <a:ext cx="5075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981080"/>
                    <a:ext cx="5075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ML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eXtensible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3C “Recommend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nd related information at: http://www.w3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ly a meta-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define semantics or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rules for defining and using tags to structur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efine the ta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DI Output (XML-EDI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DI Input (EDI-XM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5" name=""/>
          <p:cNvGraphicFramePr/>
          <p:nvPr/>
        </p:nvGraphicFramePr>
        <p:xfrm>
          <a:off x="2049480" y="1981080"/>
          <a:ext cx="504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1981080"/>
                    <a:ext cx="504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7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ML Outpu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EDI-XML transl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9" name=""/>
          <p:cNvGraphicFramePr/>
          <p:nvPr/>
        </p:nvGraphicFramePr>
        <p:xfrm>
          <a:off x="2054160" y="1981080"/>
          <a:ext cx="5035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981080"/>
                    <a:ext cx="5035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to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a subset of SG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-20 rule: eliminates some of the more complex but rarely used SGML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is also derived from SG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has a similar look and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 - many important differences between XML,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vs.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09480" y="1752480"/>
          <a:ext cx="8001000" cy="40640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81288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s are defined by a specific  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s the ta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s define the structure and meaning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the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s define layout and formatting of the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s and attributes ARE case sensitiv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s and attributes are NOT case sen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start tags MUST have a corresponding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 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 tags do not have end ta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s MUST be nested proper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ing does not always enforce nesting hierarc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TD describes the structure of the X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f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(tag) that is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tributes allowed for each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 model of each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pecify nested elements, either as a sequence or cho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may be parsed character data (#PCDA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48:21Z</dcterms:created>
  <dc:creator>Alex Carson</dc:creator>
  <dc:description/>
  <dc:language>en-US</dc:language>
  <cp:lastModifiedBy>Fritz Fahrenback</cp:lastModifiedBy>
  <dcterms:modified xsi:type="dcterms:W3CDTF">2004-05-03T20:58:02Z</dcterms:modified>
  <cp:revision>23</cp:revision>
  <dc:subject/>
  <dc:title>PowerPoint Presentation</dc:title>
</cp:coreProperties>
</file>